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220-FFB3-4C90-9D49-BADAF06E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3730-344D-4E46-8BE9-ABCC591A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53C4-C144-43AF-9493-5CAB9CD9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583F-930F-4BF7-97D1-A9C601FA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40DC-72DF-4F2C-BEEC-11E071C2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0047-15F7-45DE-A935-D1830B64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ACC2-F532-43C1-B887-9A1CFDDB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FDB2-F0AE-4AB8-98E4-85DB6084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A679-D3CF-4280-9BE0-6BB5453F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4564-8F35-4E42-9C25-6B1C6CBE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B330-AD43-49E8-925B-1A2707B2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B78E-9321-4E4E-9A48-B2C3176D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D2A1-FC85-46D5-B880-6763F75A451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E3B3-B88E-456C-965F-5414BF1719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M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全球新兴国家商业资讯数据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98989"/>
                </a:solidFill>
                <a:latin typeface="Calibri"/>
              </a:rPr>
              <a:t>中英文设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登录</a:t>
            </a:r>
            <a:br>
              <a:rPr sz="2500"/>
            </a:br>
            <a:br>
              <a:rPr sz="2500"/>
            </a:b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不论出现的是“英文”还是“中文”，请如下图所示，勾选“全部”之后再点“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TINU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57200" y="1892160"/>
            <a:ext cx="8229600" cy="39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界面语言选择</a:t>
            </a:r>
            <a:br>
              <a:rPr sz="2400"/>
            </a:br>
            <a:br>
              <a:rPr sz="2400"/>
            </a:b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登录进去后，当出现“英文”界面，如下图时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内容占位符 3" descr=""/>
          <p:cNvPicPr/>
          <p:nvPr/>
        </p:nvPicPr>
        <p:blipFill>
          <a:blip r:embed="rId1"/>
          <a:stretch/>
        </p:blipFill>
        <p:spPr>
          <a:xfrm>
            <a:off x="457200" y="1954080"/>
            <a:ext cx="822960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把鼠标箭头移动到右上角的“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QUICK LINKS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处，会出现下图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4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内容占位符 3" descr=""/>
          <p:cNvPicPr/>
          <p:nvPr/>
        </p:nvPicPr>
        <p:blipFill>
          <a:blip r:embed="rId1"/>
          <a:stretch/>
        </p:blipFill>
        <p:spPr>
          <a:xfrm>
            <a:off x="457200" y="1887480"/>
            <a:ext cx="82296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继而鼠标移动到左下角的“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ACCOUNT SETTINGS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，即进入“客户设置”界面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360"/>
            <a:ext cx="8362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通过上面那界面可设置个人喜欢的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Languag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界面语言” 及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ent Languag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内容语言”。下面以： “中文”为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3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777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设置“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  <a:ea typeface="宋体"/>
              </a:rPr>
              <a:t>界面语言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”：点击“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Interface Languag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下的选择框，会出现“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Chines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，选中“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Chines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。之后页面会自动跳转为中文界面。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内容占位符 4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设置“</a:t>
            </a:r>
            <a:r>
              <a:rPr b="1" lang="zh-CN" sz="1600" spc="-1" strike="noStrike">
                <a:solidFill>
                  <a:srgbClr val="ff0000"/>
                </a:solidFill>
                <a:latin typeface="Calibri"/>
              </a:rPr>
              <a:t>内容语言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”：单击“内容语言”下的“设置默认内容语言”的下拉框，之后即可勾选“中文” （建议将中文和英文同时勾选）。勾选后，将鼠标移动到任意空白处，点击一下便设置完毕。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内容占位符 3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36920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1T05:32:00Z</dcterms:created>
  <dc:creator>邹雪锋</dc:creator>
  <dc:description/>
  <dc:language>en-US</dc:language>
  <cp:lastModifiedBy>Administrator</cp:lastModifiedBy>
  <dcterms:modified xsi:type="dcterms:W3CDTF">2016-11-14T00:48:48Z</dcterms:modified>
  <cp:revision>12</cp:revision>
  <dc:subject/>
  <dc:title>EMIS 全球新兴国家商业资讯数据库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8</vt:lpwstr>
  </property>
</Properties>
</file>